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27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8477-A0D4-4717-995C-CD26181981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5DA6-CB77-49D2-8325-3D5FB0CA1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BC87-745A-418C-AA9A-F1FC994F1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-linked alleles are always expressed in males, because males have only one X chromosome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Males who receive the recessive 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llele all have colorblindness. Females, however, will have colorblindness only if they receive two 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lle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F9C9-B1FD-4FCE-A00F-D0334DF6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0D76-6F45-4E47-8D6D-727D3185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15DD-37C1-4210-969A-C687F996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716C-02E3-474B-B4FF-8EB56938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4F2A-79AD-42E7-9972-5E05D22A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ABC8-3746-40EE-A7F8-71FDAB49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47A7-C988-4429-94B8-9515B5C7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4249-EA0C-4A59-816E-84D28489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E626-3685-4ED0-8F2D-CFC0D70C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F60B-0E0F-4F36-AFF5-CADC0CA7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14E5-1C03-417F-B232-05D5AA13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56B0-6CE0-4D42-B8F8-C2C9D7B1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334D-BBB6-400E-8A40-ADEBCA0E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AF08-9A2C-4ACA-AE80-AD5A3877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45DE-781D-474D-A5A4-22DB692A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EDAA-A4C9-49C8-9994-F42777C7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2A97-DE08-4ABE-84A9-2C7BCA872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DC564-7674-42BC-AA81-C1D53AED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307C1-A6D6-4819-9FA2-6170FAE1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7F241-C1BE-4240-98DF-D5CD6C46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C95E4-B1D3-48FF-BFDD-FAC490F4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AB6C4-2875-40C6-B1B1-1EBB82FF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53DA-772B-4E2D-A152-0CA798D3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D6A9B-8619-4FF5-9ACA-0EB59A4B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7D91B-8FE1-4903-AD0D-A0C0932A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F1CA9-3A06-4D0C-9913-5C36FC04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7D4FB-DAF3-4829-AEB0-89C3E866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ED895-8012-400C-BAAC-D00B1343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F43B9-BAC9-420A-BA13-6148455B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57FD0-65BB-40CE-9D4C-B0136898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9F8D5-F2A0-4969-9014-6FFFF17D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3170F-520C-4E24-9EAB-7FA743FF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935E7-68FC-4397-B896-38E5FA9B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8B24-64D7-4013-893E-6AE40A93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AA32F-E950-4144-BD27-4396C155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4F70C-6DD3-476A-94AB-D5A8B86E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0485E-A580-4C4E-9BFF-DE43B21C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9A3CF-0475-486A-B36F-0BBD3DC8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EF525-1F6D-4C59-B9A0-10D57F1B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008A9-F23F-4C28-80B5-29180D65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B5E42-7840-462B-A27C-8FB99C5C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74867-90B4-40BF-9EFD-761472D2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52E0C-AB12-4EA6-A249-230A035D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72A82-2F6D-4761-8337-C27E1861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78FD-6B8C-44F7-B4C9-2CE2D067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0570B-53FF-4553-B1C9-CFA52A3A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00864-3086-419F-89BA-2147DABC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706DE-2109-4973-9C5B-B2455A57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3436D-C10C-4821-B6E4-6482FCD0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19387-F397-45E0-BB71-D105AB71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8234C-B606-4DEE-8E10-410C49F9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031AC-75BB-49E9-B0EB-6A79D4F9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BAB40-D589-4FBB-BC64-FB451177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54BD0-79E7-4C6F-A235-C20CEF4E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B8D9D-1847-4698-A31A-6CAA5229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2ECD-48FC-45E7-825F-0F2B75A0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0BACC-DFE0-447B-A020-A17844E9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6B2C1-8318-4B58-8057-368660F1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5042A-54DD-4D70-A5A3-82BF78DB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BCACB-CED1-482F-9779-CC5810C7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25EE6-5068-4E87-AE23-F7E0A103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A3C7E-AA21-4838-9684-4A0E0639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CDD0F-93AD-437B-A214-0C804C1D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BBDF9-D7B5-4260-A35B-A3C9438A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C3C07-9C67-4BF3-8103-41481D58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9C365-58C4-4BF4-9167-EA76FBFB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AF21-2197-4A4F-B205-5AC9EC00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75CEE-761D-4093-8B65-132A9175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AC75B-628C-489D-B7BB-39447F27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0E2CC-9F37-4115-AF93-D672E838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A544C-0FF6-4586-B73C-08019F1D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EFF15-12FA-4856-8F91-22759261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154E0-89F8-4BD3-8B01-B9CF41EE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E8BDC-4337-4156-B25A-BAD721EC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2C325-F017-4D86-9E37-DA3571CC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51F94-1752-470C-ACF8-32512540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0C931-C88E-4286-9A45-ECED4A22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E92F-2D5F-44A8-B06C-98061A18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86064-5B4D-4795-9317-66F0955E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88692-8A22-45EE-9FB3-0CEFCBBC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DC42E-1CEE-4F39-A7A4-5258CB15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15730-080B-4987-8971-1D8C3083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05FAE-5E56-412D-8394-475DA28B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B3603-1CCB-4916-A983-73B460A1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494D5-DD79-4682-8E8C-499A7126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4BDB0-5AFF-4DE6-83AA-526C3AA6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4FDC8-2FA4-483F-81DB-B2810742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1BF45-2EBE-45B5-A0B5-BBBD43D1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CFA7-EB02-4905-A93A-AD6DEB31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1CCB6-55F4-4800-8CCA-49A08108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9FCCC-27D0-4225-AB55-8CB1DE84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DD735-44DB-457F-AC99-C5CE921B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46576-6871-4EC1-9D01-5D0DA866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49025-0BA6-4B2B-8ACE-B5C7EC86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11701-5294-4F2C-8F15-2EF66C3E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7A17A-C785-4E49-A99C-C35EBCC6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26E7-ABA8-4DE1-850A-2967F8603AC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DD17-2C32-411A-B7C7-9E6E9E4707E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E8E6-690D-4B53-98E1-D70CC951879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B306-83F3-4292-AA3F-237FA5764B0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6BEE-5B3D-4EC9-B45C-B5E3C453965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0658-9CC4-422C-8838-64B86DC2060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B41E-0552-424D-AA9B-26C988FC1B7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7F22-10B0-480C-862B-52B74CDB580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2894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8067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uchenne Muscular Dystroph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other X-linked cond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fferers lack a muscle protein, skeletal muscle degrad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438280" y="2362320"/>
            <a:ext cx="42674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e of the X chromosomes is inactivated in females (randomly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romosome forms a dense region that attaches to nuclear envelo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ins darker, visible under light microsco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lled a Barr Bo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covered by a Canadian cytogeneticist Dr Murray L. Bar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0" y="228600"/>
            <a:ext cx="8839080" cy="291636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304920" y="3505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ther dark spots are nucle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http://www.corbisimages.com/images/Corbis-IH036705.jpg?size=67&amp;uid=255e60f4-8b98-463a-865c-5baa884506d8"/>
          <p:cNvPicPr/>
          <p:nvPr/>
        </p:nvPicPr>
        <p:blipFill>
          <a:blip r:embed="rId1"/>
          <a:stretch/>
        </p:blipFill>
        <p:spPr>
          <a:xfrm>
            <a:off x="-20520" y="380880"/>
            <a:ext cx="9164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http://www.profimedia.si/photo/barr-body-in-a-female-squamous-epithelial/profimedia-0087691112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d in 1966 Olympics to test for males attempting to pass as fema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ulted in the stripping of medals from individuals because of ambiguous genital se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netic defect that allows males to appear as femal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o successfully indentified a number of cases of testicular feminization syndrome (androgen insensitivity syndrom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rror in androgen receptors resulting in XY individual developing phenotypically as femal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all that the 23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r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chromosome in humans dictates the gender of the individu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Y chromosome is much smaller, and carries much less genetic inf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4419720" cy="49719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2"/>
          <a:stretch/>
        </p:blipFill>
        <p:spPr>
          <a:xfrm>
            <a:off x="6019920" y="2133720"/>
            <a:ext cx="2028600" cy="1952640"/>
          </a:xfrm>
          <a:prstGeom prst="rect">
            <a:avLst/>
          </a:prstGeom>
          <a:ln w="0">
            <a:noFill/>
          </a:ln>
        </p:spPr>
      </p:pic>
      <p:sp>
        <p:nvSpPr>
          <p:cNvPr id="383" name="TextBox 5"/>
          <p:cNvSpPr/>
          <p:nvPr/>
        </p:nvSpPr>
        <p:spPr>
          <a:xfrm>
            <a:off x="990720" y="38088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X chrom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6"/>
          <p:cNvSpPr/>
          <p:nvPr/>
        </p:nvSpPr>
        <p:spPr>
          <a:xfrm>
            <a:off x="5257800" y="15238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 chrom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8"/>
          <p:cNvSpPr/>
          <p:nvPr/>
        </p:nvSpPr>
        <p:spPr>
          <a:xfrm>
            <a:off x="457200" y="32004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Colourblin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0"/>
          <p:cNvSpPr/>
          <p:nvPr/>
        </p:nvSpPr>
        <p:spPr>
          <a:xfrm>
            <a:off x="457200" y="35812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Hemophi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3"/>
          <a:stretch/>
        </p:blipFill>
        <p:spPr>
          <a:xfrm>
            <a:off x="1676520" y="3276720"/>
            <a:ext cx="581040" cy="152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"/>
          <p:cNvPicPr/>
          <p:nvPr/>
        </p:nvPicPr>
        <p:blipFill>
          <a:blip r:embed="rId4"/>
          <a:stretch/>
        </p:blipFill>
        <p:spPr>
          <a:xfrm>
            <a:off x="1371600" y="3657600"/>
            <a:ext cx="885960" cy="133200"/>
          </a:xfrm>
          <a:prstGeom prst="rect">
            <a:avLst/>
          </a:prstGeom>
          <a:ln w="0">
            <a:noFill/>
          </a:ln>
        </p:spPr>
      </p:pic>
      <p:sp>
        <p:nvSpPr>
          <p:cNvPr id="389" name="TextBox 9"/>
          <p:cNvSpPr/>
          <p:nvPr/>
        </p:nvSpPr>
        <p:spPr>
          <a:xfrm>
            <a:off x="1447920" y="5867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0-1600 g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1"/>
          <p:cNvSpPr/>
          <p:nvPr/>
        </p:nvSpPr>
        <p:spPr>
          <a:xfrm>
            <a:off x="5715000" y="4267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-200 g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1722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nes found on the either chromosome are called sex-linked trai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ar more are found on the X, and not found on the 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does this mean for males?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y are more susceptible to conditions found on the Y chromoso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X-linked conditions are expressed more so in ma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result from a defect in one of three genes found on X chromoso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2"/>
          <a:stretch/>
        </p:blipFill>
        <p:spPr>
          <a:xfrm>
            <a:off x="1143000" y="28195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"/>
          <p:cNvPicPr/>
          <p:nvPr/>
        </p:nvPicPr>
        <p:blipFill>
          <a:blip r:embed="rId3"/>
          <a:stretch/>
        </p:blipFill>
        <p:spPr>
          <a:xfrm>
            <a:off x="5181480" y="27432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59436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193320" y="1219320"/>
            <a:ext cx="380052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Possible Inheritance of Colorblindness Allel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Picture 16" descr="allele 2"/>
          <p:cNvPicPr/>
          <p:nvPr/>
        </p:nvPicPr>
        <p:blipFill>
          <a:blip r:embed="rId1"/>
          <a:stretch/>
        </p:blipFill>
        <p:spPr>
          <a:xfrm>
            <a:off x="2230560" y="3497400"/>
            <a:ext cx="1841400" cy="8204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allele 3"/>
          <p:cNvPicPr/>
          <p:nvPr/>
        </p:nvPicPr>
        <p:blipFill>
          <a:blip r:embed="rId2"/>
          <a:stretch/>
        </p:blipFill>
        <p:spPr>
          <a:xfrm>
            <a:off x="934920" y="4554360"/>
            <a:ext cx="3097440" cy="20322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8" descr="allele 4"/>
          <p:cNvPicPr/>
          <p:nvPr/>
        </p:nvPicPr>
        <p:blipFill>
          <a:blip r:embed="rId3"/>
          <a:stretch/>
        </p:blipFill>
        <p:spPr>
          <a:xfrm>
            <a:off x="3911760" y="419040"/>
            <a:ext cx="488124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emophil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nes for clotting found on X chromoso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ects lead to deficiencies in expression of coagulation facto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tients blood does not clot as easi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uts can be fata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03:06:44Z</dcterms:created>
  <dc:creator>ED18</dc:creator>
  <dc:description/>
  <dc:language>en-US</dc:language>
  <cp:lastModifiedBy>ED18</cp:lastModifiedBy>
  <dcterms:modified xsi:type="dcterms:W3CDTF">2012-04-05T13:03:00Z</dcterms:modified>
  <cp:revision>6</cp:revision>
  <dc:subject/>
  <dc:title>Sex Linkage</dc:title>
</cp:coreProperties>
</file>